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19.jpeg" ContentType="image/jpeg"/>
  <Override PartName="/ppt/media/image16.wmf" ContentType="image/x-wmf"/>
  <Override PartName="/ppt/media/image15.jpeg" ContentType="image/jpeg"/>
  <Override PartName="/ppt/media/image26.gif" ContentType="image/gif"/>
  <Override PartName="/ppt/media/image14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4FBDA2-A231-4F42-AF93-63DEB29E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6C08BF-B70E-4C3C-A2AA-456EB04C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1847C8-F6EF-4BA5-A204-36419429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A599EE-FF55-47EA-B931-D48CAD08C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0692D1-F7AE-41AE-9BA1-8555C292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b6bc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828F23-7850-4F6C-A3A4-4189F440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DIC_ppt_header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FDIC_ppt_footer"/>
          <p:cNvPicPr/>
          <p:nvPr/>
        </p:nvPicPr>
        <p:blipFill>
          <a:blip r:embed="rId3"/>
          <a:stretch/>
        </p:blipFill>
        <p:spPr>
          <a:xfrm>
            <a:off x="0" y="5638680"/>
            <a:ext cx="914076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619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B845-80E5-4C51-93E8-A9546516D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99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2" marL="1042200" indent="-219240">
              <a:spcBef>
                <a:spcPts val="799"/>
              </a:spcBef>
              <a:buClr>
                <a:srgbClr val="717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3" marL="1371600" indent="-219240">
              <a:spcBef>
                <a:spcPts val="799"/>
              </a:spcBef>
              <a:buClr>
                <a:srgbClr val="717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4" marL="1700640" indent="-219240">
              <a:spcBef>
                <a:spcPts val="799"/>
              </a:spcBef>
              <a:buClr>
                <a:srgbClr val="71717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5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6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5" name="Picture 7" descr="MS YoungAdultLogo.jpg"/>
          <p:cNvPicPr/>
          <p:nvPr/>
        </p:nvPicPr>
        <p:blipFill>
          <a:blip r:embed="rId4"/>
          <a:stretch/>
        </p:blipFill>
        <p:spPr>
          <a:xfrm>
            <a:off x="457200" y="5486400"/>
            <a:ext cx="11872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PPT_cover_v4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6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MS YoungAdultLogo.jpg"/>
          <p:cNvPicPr/>
          <p:nvPr/>
        </p:nvPicPr>
        <p:blipFill>
          <a:blip r:embed="rId3"/>
          <a:stretch/>
        </p:blipFill>
        <p:spPr>
          <a:xfrm>
            <a:off x="7345440" y="865080"/>
            <a:ext cx="1646280" cy="126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99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2" marL="1042200" indent="-219240">
              <a:spcBef>
                <a:spcPts val="799"/>
              </a:spcBef>
              <a:buClr>
                <a:srgbClr val="717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3" marL="1371600" indent="-219240">
              <a:spcBef>
                <a:spcPts val="799"/>
              </a:spcBef>
              <a:buClr>
                <a:srgbClr val="717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4" marL="1700640" indent="-219240">
              <a:spcBef>
                <a:spcPts val="799"/>
              </a:spcBef>
              <a:buClr>
                <a:srgbClr val="71717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5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6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0570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17171"/>
                </a:solidFill>
                <a:latin typeface="Arial"/>
              </a:rPr>
              <a:t>Bank On I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3720" y="28191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</a:rPr>
              <a:t>FDIC Money Smart for Young Adults 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032360" y="-19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ilding: Knowledge, Security, Conf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cking Accou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6141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low you to pay bills and buy goods by using checks or an ATM or debit card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ou will receive a monthly bank statemen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e the rules of the different checking account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</p:txBody>
      </p:sp>
      <p:pic>
        <p:nvPicPr>
          <p:cNvPr id="122" name="Picture 14" descr="Person putting a card in an ATM"/>
          <p:cNvPicPr/>
          <p:nvPr/>
        </p:nvPicPr>
        <p:blipFill>
          <a:blip r:embed="rId1"/>
          <a:stretch/>
        </p:blipFill>
        <p:spPr>
          <a:xfrm>
            <a:off x="6912000" y="944640"/>
            <a:ext cx="21016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nk Versus Check-Cashing Servi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2457000"/>
            <a:ext cx="558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Bank</a:t>
            </a: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month: $5.00 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year: $5.00 x 12 = $60.00 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$60.00 + $18.00 (checks) = $78.00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635280" y="1413000"/>
            <a:ext cx="4789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heck-Cashing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 month: 4 x $5.00 = $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 year: $20.00 x 12 = $24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3635280" y="4653000"/>
            <a:ext cx="48610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v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$240.00 - $78.00 =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$162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vings Accou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6105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ou generally: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e paid interest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not write check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open an account with a few dollar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view your account statemen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29" name="Picture 13" descr="Increasing stacks of money "/>
          <p:cNvPicPr/>
          <p:nvPr/>
        </p:nvPicPr>
        <p:blipFill>
          <a:blip r:embed="rId1"/>
          <a:stretch/>
        </p:blipFill>
        <p:spPr>
          <a:xfrm>
            <a:off x="5791320" y="2971800"/>
            <a:ext cx="30528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n-Deposit Accou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s: stocks, bonds, and mutual fund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se products are not insured by the FDIC and you could lose some or all of the money that you invest in these products.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32" name="Picture 6" descr="Wall St. road sign"/>
          <p:cNvPicPr/>
          <p:nvPr/>
        </p:nvPicPr>
        <p:blipFill>
          <a:blip r:embed="rId1"/>
          <a:stretch/>
        </p:blipFill>
        <p:spPr>
          <a:xfrm>
            <a:off x="4824360" y="4653000"/>
            <a:ext cx="37465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TM and Debit C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TM cards: can be used at ATMs and some store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bit cards: can be used anywhere major payments systems (e.g., VISA and MasterCard) are accepted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ored value cards: are not linked to your bank accoun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35" name="Picture 3" descr="Card being swiped in POS terminal"/>
          <p:cNvPicPr/>
          <p:nvPr/>
        </p:nvPicPr>
        <p:blipFill>
          <a:blip r:embed="rId1"/>
          <a:stretch/>
        </p:blipFill>
        <p:spPr>
          <a:xfrm>
            <a:off x="5400720" y="4761000"/>
            <a:ext cx="15717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itional Banking Servi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305000"/>
            <a:ext cx="631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rect deposit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ney order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lephone and online banking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M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ney transfer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bit cards 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red value card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an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mittance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38" name="Picture 4" descr="Animation of a person opening a computer screen and coins displayed inside like it was a bank"/>
          <p:cNvPicPr/>
          <p:nvPr/>
        </p:nvPicPr>
        <p:blipFill>
          <a:blip r:embed="rId1"/>
          <a:stretch/>
        </p:blipFill>
        <p:spPr>
          <a:xfrm>
            <a:off x="5651640" y="2960640"/>
            <a:ext cx="30096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vacy Notices and Opting Ou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375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Privacy notices explain how your information is handled and shared.</a:t>
            </a: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Opt out options:</a:t>
            </a: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 privacy notices and opt out option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ll the credit reporting agencies not to share your information 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ll 1-888-5-OPTOUT (567-8688) 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isi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ptoutprescreen.co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162396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h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h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tect yourself when shopping or banking onl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entity Theft: Protect Your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Person in coat and hat with a magnifying glass (like a private detective) searching for information on a computer"/>
          <p:cNvPicPr/>
          <p:nvPr/>
        </p:nvPicPr>
        <p:blipFill>
          <a:blip r:embed="rId1"/>
          <a:stretch/>
        </p:blipFill>
        <p:spPr>
          <a:xfrm>
            <a:off x="5400720" y="1376280"/>
            <a:ext cx="30495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647640" y="1371600"/>
            <a:ext cx="590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le a report with the police as soon as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act your bank 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ce a fraud alert on your credit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act the major check verification compan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d Someone Steal Your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Documents and Settings\Karissa\Local Settings\Temporary Internet Files\Content.IE5\8LYV04CH\MP900448595[1].jpg"/>
          <p:cNvPicPr/>
          <p:nvPr/>
        </p:nvPicPr>
        <p:blipFill>
          <a:blip r:embed="rId1"/>
          <a:stretch/>
        </p:blipFill>
        <p:spPr>
          <a:xfrm>
            <a:off x="6624720" y="1628640"/>
            <a:ext cx="2035080" cy="30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ortant Bank Employe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66640" y="54097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ustomer Service Representative</a:t>
            </a:r>
            <a:endParaRPr b="0" lang="en-US" sz="20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49" name="Picture 13" descr="Customer service representatives talking into their headsets"/>
          <p:cNvPicPr/>
          <p:nvPr/>
        </p:nvPicPr>
        <p:blipFill>
          <a:blip r:embed="rId1"/>
          <a:stretch/>
        </p:blipFill>
        <p:spPr>
          <a:xfrm>
            <a:off x="3610080" y="3962520"/>
            <a:ext cx="182880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50" name="Picture 16" descr="Male representing a bank teller"/>
          <p:cNvPicPr/>
          <p:nvPr/>
        </p:nvPicPr>
        <p:blipFill>
          <a:blip r:embed="rId2"/>
          <a:srcRect l="0" t="0" r="0" b="-343"/>
          <a:stretch/>
        </p:blipFill>
        <p:spPr>
          <a:xfrm>
            <a:off x="6337440" y="2743200"/>
            <a:ext cx="119196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1" name="Rectangle 19"/>
          <p:cNvSpPr/>
          <p:nvPr/>
        </p:nvSpPr>
        <p:spPr>
          <a:xfrm>
            <a:off x="6021360" y="4267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nk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Female looking at someone at her desk and a person standing behind her"/>
          <p:cNvPicPr/>
          <p:nvPr/>
        </p:nvPicPr>
        <p:blipFill>
          <a:blip r:embed="rId3"/>
          <a:stretch/>
        </p:blipFill>
        <p:spPr>
          <a:xfrm>
            <a:off x="3962520" y="1447920"/>
            <a:ext cx="121896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3" name="Rectangle 20"/>
          <p:cNvSpPr/>
          <p:nvPr/>
        </p:nvSpPr>
        <p:spPr>
          <a:xfrm>
            <a:off x="991800" y="41911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an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Male in suite and tie"/>
          <p:cNvPicPr/>
          <p:nvPr/>
        </p:nvPicPr>
        <p:blipFill>
          <a:blip r:embed="rId4"/>
          <a:stretch/>
        </p:blipFill>
        <p:spPr>
          <a:xfrm>
            <a:off x="1219320" y="2819520"/>
            <a:ext cx="152856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5" name="Rectangle 21"/>
          <p:cNvSpPr/>
          <p:nvPr/>
        </p:nvSpPr>
        <p:spPr>
          <a:xfrm>
            <a:off x="3240720" y="28195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ranch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4800" y="1303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dentify the major types of insured financial institutions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dentify five reasons to use a bank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cribe the steps involved in opening and maintaining a bank account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cribe two types of deposit accounts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dentify additional bank services that come with deposit accounts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cribe the main functions of the bank customer service representative, teller, loan officer, and branch manager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ey Things to Rememb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Person signing or filling out documents"/>
          <p:cNvPicPr/>
          <p:nvPr/>
        </p:nvPicPr>
        <p:blipFill>
          <a:blip r:embed="rId1"/>
          <a:stretch/>
        </p:blipFill>
        <p:spPr>
          <a:xfrm>
            <a:off x="6696000" y="3716280"/>
            <a:ext cx="2195640" cy="21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8" name="Rectangle 3"/>
          <p:cNvSpPr/>
          <p:nvPr/>
        </p:nvSpPr>
        <p:spPr>
          <a:xfrm>
            <a:off x="611280" y="1371600"/>
            <a:ext cx="654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k for help; ask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o not sign anything you do not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k for written information to take home to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e the “Choosing a Bank and a Bank Account Checkl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27"/>
          <p:cNvSpPr/>
          <p:nvPr/>
        </p:nvSpPr>
        <p:spPr>
          <a:xfrm>
            <a:off x="228600" y="2133720"/>
            <a:ext cx="8763120" cy="266688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6" descr="Comic strip in which the girl admits she didn't realize how much banks do and the guy can't wait to start saving money"/>
          <p:cNvPicPr/>
          <p:nvPr/>
        </p:nvPicPr>
        <p:blipFill>
          <a:blip r:embed="rId1"/>
          <a:stretch/>
        </p:blipFill>
        <p:spPr>
          <a:xfrm>
            <a:off x="380880" y="2362320"/>
            <a:ext cx="8467920" cy="224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61" name="Rectangle 1028"/>
          <p:cNvSpPr/>
          <p:nvPr/>
        </p:nvSpPr>
        <p:spPr>
          <a:xfrm>
            <a:off x="53028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ul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ule Summa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14400" y="1523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7171"/>
                </a:solidFill>
                <a:latin typeface="Arial"/>
              </a:rPr>
              <a:t>Congratulations! You have learned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511280" y="2492280"/>
            <a:ext cx="6553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 of insured finan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 banking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ening and maintaining a bank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ces between banks and check-cash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 of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 of bank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nk employees and thei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Two people on a see saw in the form of a percentage symbol"/>
          <p:cNvPicPr/>
          <p:nvPr/>
        </p:nvPicPr>
        <p:blipFill>
          <a:blip r:embed="rId1"/>
          <a:stretch/>
        </p:blipFill>
        <p:spPr>
          <a:xfrm>
            <a:off x="7086600" y="304920"/>
            <a:ext cx="1047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7"/>
          <p:cNvSpPr/>
          <p:nvPr/>
        </p:nvSpPr>
        <p:spPr>
          <a:xfrm>
            <a:off x="152280" y="2057400"/>
            <a:ext cx="8839440" cy="289548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6" descr="Comic strip about a guy who opened a bank account and a girl who keeps her money in a drawer in her bedroom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225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7" name="Rectangle 1028"/>
          <p:cNvSpPr/>
          <p:nvPr/>
        </p:nvSpPr>
        <p:spPr>
          <a:xfrm>
            <a:off x="530280" y="228600"/>
            <a:ext cx="78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You Have a Bank Acco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Banks Do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nks: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re businesses that offer a safe place to keep money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re also call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inancial institution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fer many financial service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955960" y="468792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Bank exterior and sign"/>
          <p:cNvPicPr/>
          <p:nvPr/>
        </p:nvPicPr>
        <p:blipFill>
          <a:blip r:embed="rId1"/>
          <a:stretch/>
        </p:blipFill>
        <p:spPr>
          <a:xfrm>
            <a:off x="5676840" y="2514600"/>
            <a:ext cx="3235320" cy="228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Keep Your Money in a Bank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Person turning a safe combination dial"/>
          <p:cNvPicPr/>
          <p:nvPr/>
        </p:nvPicPr>
        <p:blipFill>
          <a:blip r:embed="rId1"/>
          <a:stretch/>
        </p:blipFill>
        <p:spPr>
          <a:xfrm>
            <a:off x="4724280" y="2057400"/>
            <a:ext cx="3962520" cy="26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04" name="Rectangle 3"/>
          <p:cNvSpPr/>
          <p:nvPr/>
        </p:nvSpPr>
        <p:spPr>
          <a:xfrm>
            <a:off x="762120" y="1600200"/>
            <a:ext cx="38671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ven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nancial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ypes of Financial Institu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6781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nks and Thrift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redit Union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371600" y="3164040"/>
            <a:ext cx="6400440" cy="1828440"/>
            <a:chOff x="1371600" y="3164040"/>
            <a:chExt cx="6400440" cy="1828440"/>
          </a:xfrm>
        </p:grpSpPr>
        <p:pic>
          <p:nvPicPr>
            <p:cNvPr id="108" name="Picture 5" descr=""/>
            <p:cNvPicPr/>
            <p:nvPr/>
          </p:nvPicPr>
          <p:blipFill>
            <a:blip r:embed="rId1"/>
            <a:stretch/>
          </p:blipFill>
          <p:spPr>
            <a:xfrm>
              <a:off x="1371600" y="3164040"/>
              <a:ext cx="2268000" cy="18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40000"/>
                </a:srgbClr>
              </a:outerShdw>
            </a:effectLst>
          </p:spPr>
        </p:pic>
        <p:pic>
          <p:nvPicPr>
            <p:cNvPr id="109" name="Picture 6" descr=""/>
            <p:cNvPicPr/>
            <p:nvPr/>
          </p:nvPicPr>
          <p:blipFill>
            <a:blip r:embed="rId2"/>
            <a:stretch/>
          </p:blipFill>
          <p:spPr>
            <a:xfrm>
              <a:off x="3648600" y="3164040"/>
              <a:ext cx="1841400" cy="18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40000"/>
                </a:srgbClr>
              </a:outerShdw>
            </a:effectLst>
          </p:spPr>
        </p:pic>
        <p:pic>
          <p:nvPicPr>
            <p:cNvPr id="110" name="Picture 9" descr=""/>
            <p:cNvPicPr/>
            <p:nvPr/>
          </p:nvPicPr>
          <p:blipFill>
            <a:blip r:embed="rId3"/>
            <a:stretch/>
          </p:blipFill>
          <p:spPr>
            <a:xfrm>
              <a:off x="5504040" y="3164040"/>
              <a:ext cx="2268000" cy="18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ening and Maintaining a Bank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63640" y="1557360"/>
            <a:ext cx="5334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n the ac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ke deposits and withdraw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cord interest and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eep track of your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A bank with money going in and coming out"/>
          <p:cNvPicPr/>
          <p:nvPr/>
        </p:nvPicPr>
        <p:blipFill>
          <a:blip r:embed="rId1"/>
          <a:stretch/>
        </p:blipFill>
        <p:spPr>
          <a:xfrm>
            <a:off x="6443640" y="206064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ccount Verification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Person handing over a passport"/>
          <p:cNvPicPr/>
          <p:nvPr/>
        </p:nvPicPr>
        <p:blipFill>
          <a:blip r:embed="rId1"/>
          <a:stretch/>
        </p:blipFill>
        <p:spPr>
          <a:xfrm>
            <a:off x="4816440" y="2487600"/>
            <a:ext cx="3468600" cy="2279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1371600" y="2529000"/>
            <a:ext cx="5181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SN or 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te- or government-issued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14479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ving your identity by providing the bank with yo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nking Ter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371600"/>
          <a:ext cx="7863120" cy="4118040"/>
        </p:xfrm>
        <a:graphic>
          <a:graphicData uri="http://schemas.openxmlformats.org/drawingml/2006/table">
            <a:tbl>
              <a:tblPr/>
              <a:tblGrid>
                <a:gridCol w="2167200"/>
                <a:gridCol w="56959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ab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ut money into your accou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abff">
                        <a:alpha val="50000"/>
                      </a:srgbClr>
                    </a:solidFill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dbd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ke money out of your accou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dbdff">
                        <a:alpha val="50000"/>
                      </a:srgbClr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c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 amount of money you have in your accou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ceff">
                        <a:alpha val="50000"/>
                      </a:srgbClr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ey charged by the bank for different servic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ff">
                        <a:alpha val="50000"/>
                      </a:srgbClr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draft Progra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5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tions in the event you overdraw your account (spend more money than you have in your account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5f4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1:24:57Z</dcterms:created>
  <dc:creator>IT Dept</dc:creator>
  <dc:description/>
  <dc:language>en-US</dc:language>
  <cp:lastModifiedBy>Hering</cp:lastModifiedBy>
  <dcterms:modified xsi:type="dcterms:W3CDTF">2011-10-26T13:04:48Z</dcterms:modified>
  <cp:revision>1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2C19DD5F75D64499EFDD8B978C37752</vt:lpwstr>
  </property>
  <property fmtid="{D5CDD505-2E9C-101B-9397-08002B2CF9AE}" pid="3" name="Order">
    <vt:r8>4300</vt:r8>
  </property>
  <property fmtid="{D5CDD505-2E9C-101B-9397-08002B2CF9AE}" pid="4" name="TemplateUrl">
    <vt:lpwstr/>
  </property>
  <property fmtid="{D5CDD505-2E9C-101B-9397-08002B2CF9AE}" pid="5" name="_CopySource">
    <vt:lpwstr>http://www.ieperform.com/sites/projects/FDIC/MoneySmart/Development/IE Team Development  Module 1/Drafts/FDIC_Slides_Mod1_BankOnIt_01_15_jk.pptx</vt:lpwstr>
  </property>
  <property fmtid="{D5CDD505-2E9C-101B-9397-08002B2CF9AE}" pid="6" name="xd_ProgID">
    <vt:lpwstr/>
  </property>
</Properties>
</file>